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8BD-5750-4087-9930-E0706185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ED0-7A4D-48F6-AE4E-77946061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5EB-BE3E-42DD-859E-90E86AA4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A02-A09C-48B1-871B-B3F00A93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C08-101D-435D-9B5C-FD7BCB69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15F-0475-420B-BA81-3E60ABED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955-ED12-4CB0-AC3E-BE451D87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59D-A00F-40CC-8DCD-99059657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099-37D9-42CF-B658-F256D98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8A3-9C67-4D93-A080-55EFD42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177-F7AE-4B9C-9D4F-4B2FB98B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A17-A558-4CC6-9AF3-D56D0FB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E2F-DC7C-4AD3-BC1D-6985FDC55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al Phonetics 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sounds: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l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ann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rti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99"/>
                </a:solidFill>
                <a:latin typeface="Arial"/>
              </a:rPr>
              <a:t>Wher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09999"/>
                </a:solidFill>
                <a:latin typeface="Arial"/>
              </a:rPr>
              <a:t>how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sounds are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me manners of articu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losiv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think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plo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ilabiales"/>
          <p:cNvPicPr/>
          <p:nvPr/>
        </p:nvPicPr>
        <p:blipFill>
          <a:blip r:embed="rId1"/>
          <a:stretch/>
        </p:blipFill>
        <p:spPr>
          <a:xfrm>
            <a:off x="684360" y="2060640"/>
            <a:ext cx="226692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picodent"/>
          <p:cNvPicPr/>
          <p:nvPr/>
        </p:nvPicPr>
        <p:blipFill>
          <a:blip r:embed="rId2"/>
          <a:stretch/>
        </p:blipFill>
        <p:spPr>
          <a:xfrm>
            <a:off x="3492360" y="2133720"/>
            <a:ext cx="228600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468360" y="465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bial: p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419640" y="4653000"/>
            <a:ext cx="23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ar: t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516720" y="46530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ar: k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0"/>
          <p:cNvGrpSpPr/>
          <p:nvPr/>
        </p:nvGrpSpPr>
        <p:grpSpPr>
          <a:xfrm>
            <a:off x="6300720" y="2133720"/>
            <a:ext cx="2016360" cy="2287440"/>
            <a:chOff x="6300720" y="2133720"/>
            <a:chExt cx="2016360" cy="2287440"/>
          </a:xfrm>
        </p:grpSpPr>
        <p:grpSp>
          <p:nvGrpSpPr>
            <p:cNvPr id="93" name="Group 19"/>
            <p:cNvGrpSpPr/>
            <p:nvPr/>
          </p:nvGrpSpPr>
          <p:grpSpPr>
            <a:xfrm>
              <a:off x="6300720" y="2133720"/>
              <a:ext cx="2016360" cy="2287440"/>
              <a:chOff x="6300720" y="2133720"/>
              <a:chExt cx="2016360" cy="2287440"/>
            </a:xfrm>
          </p:grpSpPr>
          <p:pic>
            <p:nvPicPr>
              <p:cNvPr id="94" name="Picture 12" descr="nasVelaire"/>
              <p:cNvPicPr/>
              <p:nvPr/>
            </p:nvPicPr>
            <p:blipFill>
              <a:blip r:embed="rId3"/>
              <a:srcRect l="0" t="0" r="23004" b="0"/>
              <a:stretch/>
            </p:blipFill>
            <p:spPr>
              <a:xfrm>
                <a:off x="6300720" y="2133720"/>
                <a:ext cx="1689120" cy="22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Freeform 17"/>
              <p:cNvSpPr/>
              <p:nvPr/>
            </p:nvSpPr>
            <p:spPr>
              <a:xfrm>
                <a:off x="7861320" y="2492280"/>
                <a:ext cx="455760" cy="17287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Freeform 18"/>
            <p:cNvSpPr/>
            <p:nvPr/>
          </p:nvSpPr>
          <p:spPr>
            <a:xfrm>
              <a:off x="7951680" y="4114800"/>
              <a:ext cx="136800" cy="206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catives (think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fric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Figure 3.16 :  labiodental fricative"/>
          <p:cNvPicPr/>
          <p:nvPr/>
        </p:nvPicPr>
        <p:blipFill>
          <a:blip r:embed="rId1"/>
          <a:srcRect l="0" t="0" r="6572" b="0"/>
          <a:stretch/>
        </p:blipFill>
        <p:spPr>
          <a:xfrm>
            <a:off x="468360" y="1844640"/>
            <a:ext cx="2047680" cy="2021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395280" y="4581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iodental: f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76720" y="4581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ar: s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832360" y="436572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ato-alveolar or post-alveolar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ʃ  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Figure 3.17 : alveolar hisser (fricative)"/>
          <p:cNvPicPr/>
          <p:nvPr/>
        </p:nvPicPr>
        <p:blipFill>
          <a:blip r:embed="rId2"/>
          <a:stretch/>
        </p:blipFill>
        <p:spPr>
          <a:xfrm>
            <a:off x="3492360" y="1916280"/>
            <a:ext cx="2246400" cy="190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Figure 3.19 : alveolar fricative"/>
          <p:cNvPicPr/>
          <p:nvPr/>
        </p:nvPicPr>
        <p:blipFill>
          <a:blip r:embed="rId3"/>
          <a:stretch/>
        </p:blipFill>
        <p:spPr>
          <a:xfrm>
            <a:off x="6227640" y="1989000"/>
            <a:ext cx="2152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oral"/>
          <p:cNvPicPr/>
          <p:nvPr/>
        </p:nvPicPr>
        <p:blipFill>
          <a:blip r:embed="rId1"/>
          <a:srcRect l="0" t="3012" r="52622" b="0"/>
          <a:stretch/>
        </p:blipFill>
        <p:spPr>
          <a:xfrm>
            <a:off x="826920" y="1719360"/>
            <a:ext cx="2787840" cy="2909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nasal"/>
          <p:cNvPicPr/>
          <p:nvPr/>
        </p:nvPicPr>
        <p:blipFill>
          <a:blip r:embed="rId2"/>
          <a:srcRect l="871" t="3012" r="52260" b="0"/>
          <a:stretch/>
        </p:blipFill>
        <p:spPr>
          <a:xfrm>
            <a:off x="5192640" y="1719360"/>
            <a:ext cx="2417760" cy="289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4427640" y="515772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lum is lowered, allowing air to enter the nasal c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igure 3.7 : Bilabial plosive"/>
          <p:cNvPicPr/>
          <p:nvPr/>
        </p:nvPicPr>
        <p:blipFill>
          <a:blip r:embed="rId1"/>
          <a:srcRect l="0" t="0" r="6248" b="0"/>
          <a:stretch/>
        </p:blipFill>
        <p:spPr>
          <a:xfrm>
            <a:off x="684360" y="1628640"/>
            <a:ext cx="2173320" cy="216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Figure 3.11 : velar nasal"/>
          <p:cNvPicPr/>
          <p:nvPr/>
        </p:nvPicPr>
        <p:blipFill>
          <a:blip r:embed="rId2"/>
          <a:srcRect l="0" t="0" r="6572" b="0"/>
          <a:stretch/>
        </p:blipFill>
        <p:spPr>
          <a:xfrm>
            <a:off x="6516720" y="1700280"/>
            <a:ext cx="2047680" cy="2287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684360" y="4437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bial: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6480000" y="4437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ar: 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276720" y="4437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ar: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8"/>
          <p:cNvSpPr/>
          <p:nvPr/>
        </p:nvSpPr>
        <p:spPr>
          <a:xfrm>
            <a:off x="5457960" y="2379600"/>
            <a:ext cx="115920" cy="3286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1"/>
          <p:cNvGrpSpPr/>
          <p:nvPr/>
        </p:nvGrpSpPr>
        <p:grpSpPr>
          <a:xfrm>
            <a:off x="3851280" y="1700280"/>
            <a:ext cx="2160720" cy="2133360"/>
            <a:chOff x="3851280" y="1700280"/>
            <a:chExt cx="2160720" cy="2133360"/>
          </a:xfrm>
        </p:grpSpPr>
        <p:pic>
          <p:nvPicPr>
            <p:cNvPr id="116" name="Picture 20" descr="apicodent"/>
            <p:cNvPicPr/>
            <p:nvPr/>
          </p:nvPicPr>
          <p:blipFill>
            <a:blip r:embed="rId3"/>
            <a:srcRect l="0" t="0" r="28346" b="0"/>
            <a:stretch/>
          </p:blipFill>
          <p:spPr>
            <a:xfrm>
              <a:off x="3851280" y="1700280"/>
              <a:ext cx="1641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Freeform 29"/>
            <p:cNvSpPr/>
            <p:nvPr/>
          </p:nvSpPr>
          <p:spPr>
            <a:xfrm>
              <a:off x="5580000" y="1844640"/>
              <a:ext cx="432000" cy="187164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5580000" y="3500280"/>
              <a:ext cx="144360" cy="24300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ricates (a combination of stop + fricative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ʧ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voiceless post-alveolar aff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ʤ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voiced post-alveolar aff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ximant (articulators approach each other but do not touch):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  r  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eral (also called lateral approximant; air flows over sides of tongue):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of Places of Arti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bial  (lips)   p b m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iodental   (lips and teeth)  f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tal  (tongue and teeth)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th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veolar  (tongue and alveolar rid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d s z n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lato-alveolar  (tongue and front part of har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late) ʃ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sho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ʒ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mea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s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u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ʧ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chea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ʤ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jee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latal  (tongue and hard palate)  j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lar  (tongue and velum)  k g ŋ runni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ottal  (glottis)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of manners of arti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sive / Stop    p b t d k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ative  f v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 s z ʃ ʒ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ricate (stop + fricative)  ʧ ʤ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sal   m n 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ximants  w r j (central) l (lat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ying conso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d or voic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of arti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entral or la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al or nas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 of arti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 s (sin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oiceless, alveolar, (central), (oral) fric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oiceless, alveolar plosive/stop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t/         What is /k/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voiceless, velar plosive/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engcons1"/>
          <p:cNvPicPr/>
          <p:nvPr/>
        </p:nvPicPr>
        <p:blipFill>
          <a:blip r:embed="rId1"/>
          <a:stretch/>
        </p:blipFill>
        <p:spPr>
          <a:xfrm>
            <a:off x="1042920" y="1197000"/>
            <a:ext cx="7021440" cy="3944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79280" y="549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tional Phonetic Alphabet: the English conso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95280" y="5734080"/>
            <a:ext cx="871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PA with audio illustra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eb.uvic.ca/ling/resources/ipa/charts/IPAlab/IPAla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971640" y="836640"/>
            <a:ext cx="756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ally…an x-ray (not x-rated) mov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racticalphonetics.com/seeing%20through%20speec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iew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“Classifying Consonants”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s practice: http://www.phon.ucl.ac.uk/home/johnm/flash/phonflashrp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s practi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hon.ucl.ac.uk/home/johnm/flash/findrp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‘mmmm’ – where is the ‘m’ sound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labi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onsonant (this i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ce of articul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ch your nose –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stops: it’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s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not 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conso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 fingers in your ears – what do you hea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vibrations of the vocal cords: it’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ic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onso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about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me places of articu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labial conso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labial"/>
          <p:cNvPicPr/>
          <p:nvPr/>
        </p:nvPicPr>
        <p:blipFill>
          <a:blip r:embed="rId1"/>
          <a:srcRect l="0" t="0" r="61251" b="0"/>
          <a:stretch/>
        </p:blipFill>
        <p:spPr>
          <a:xfrm>
            <a:off x="2916360" y="1844640"/>
            <a:ext cx="1993680" cy="2952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00000" y="5157720"/>
            <a:ext cx="770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ie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00000" y="2781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1692360" y="2852640"/>
            <a:ext cx="151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1692360" y="3141720"/>
            <a:ext cx="151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iodental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abiodental"/>
          <p:cNvPicPr/>
          <p:nvPr/>
        </p:nvPicPr>
        <p:blipFill>
          <a:blip r:embed="rId1"/>
          <a:srcRect l="0" t="0" r="61251" b="2999"/>
          <a:stretch/>
        </p:blipFill>
        <p:spPr>
          <a:xfrm>
            <a:off x="3132000" y="1989000"/>
            <a:ext cx="2149560" cy="3135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987640" y="5589720"/>
            <a:ext cx="4105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4720" y="1989000"/>
            <a:ext cx="223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41440" y="4437000"/>
            <a:ext cx="1669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55600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556000" y="234936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195640" y="3645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tal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nterdental"/>
          <p:cNvPicPr/>
          <p:nvPr/>
        </p:nvPicPr>
        <p:blipFill>
          <a:blip r:embed="rId1"/>
          <a:srcRect l="0" t="1518" r="61391" b="1518"/>
          <a:stretch/>
        </p:blipFill>
        <p:spPr>
          <a:xfrm>
            <a:off x="3203640" y="1960560"/>
            <a:ext cx="198288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835280" y="5157720"/>
            <a:ext cx="5616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ð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56360" y="2421000"/>
            <a:ext cx="223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69440" y="3284640"/>
            <a:ext cx="241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987640" y="270828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V="1">
            <a:off x="3059280" y="306828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veolar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lveolar"/>
          <p:cNvPicPr/>
          <p:nvPr/>
        </p:nvPicPr>
        <p:blipFill>
          <a:blip r:embed="rId1"/>
          <a:srcRect l="0" t="1494" r="61391" b="1494"/>
          <a:stretch/>
        </p:blipFill>
        <p:spPr>
          <a:xfrm>
            <a:off x="3203640" y="2104920"/>
            <a:ext cx="19828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908000" y="4797360"/>
            <a:ext cx="66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e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gh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l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24720" y="2421000"/>
            <a:ext cx="2617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ar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132000" y="270828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624280" y="3429000"/>
            <a:ext cx="3518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/blade of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 flipV="1">
            <a:off x="4140360" y="306828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alveolar / palato-alveolar conso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900000" y="4508640"/>
            <a:ext cx="73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ʃ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e, pre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r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Ʒ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lea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ʤ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ep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r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postalveolar POA"/>
          <p:cNvPicPr/>
          <p:nvPr/>
        </p:nvPicPr>
        <p:blipFill>
          <a:blip r:embed="rId1"/>
          <a:stretch/>
        </p:blipFill>
        <p:spPr>
          <a:xfrm>
            <a:off x="3276720" y="1989000"/>
            <a:ext cx="23209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atal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alatal POA"/>
          <p:cNvPicPr/>
          <p:nvPr/>
        </p:nvPicPr>
        <p:blipFill>
          <a:blip r:embed="rId1"/>
          <a:stretch/>
        </p:blipFill>
        <p:spPr>
          <a:xfrm>
            <a:off x="3203640" y="2276640"/>
            <a:ext cx="2232000" cy="2460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3635280" y="5013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j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ar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velar"/>
          <p:cNvPicPr/>
          <p:nvPr/>
        </p:nvPicPr>
        <p:blipFill>
          <a:blip r:embed="rId1"/>
          <a:srcRect l="0" t="0" r="61391" b="3060"/>
          <a:stretch/>
        </p:blipFill>
        <p:spPr>
          <a:xfrm>
            <a:off x="3348000" y="2060640"/>
            <a:ext cx="1981080" cy="2849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188360" y="1700280"/>
            <a:ext cx="1264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27280" y="1989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9640" y="3789360"/>
            <a:ext cx="28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of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419640" y="299736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050920" y="5229360"/>
            <a:ext cx="5257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rl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7:48:35Z</dcterms:created>
  <dc:creator>english</dc:creator>
  <dc:description/>
  <dc:language>en-US</dc:language>
  <cp:lastModifiedBy>Ann</cp:lastModifiedBy>
  <dcterms:modified xsi:type="dcterms:W3CDTF">2008-11-03T18:33:00Z</dcterms:modified>
  <cp:revision>22</cp:revision>
  <dc:subject/>
  <dc:title>Place and Manner of Articulation</dc:title>
</cp:coreProperties>
</file>